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FEC3-32C7-4C55-9852-45A0921A4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97DF-F3E5-421C-9759-FB7FC21DA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42DD-E54B-4496-A793-28D3DFA7F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2BC9-1502-429C-A583-ADECE844D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19AAF-383F-4186-A998-BDE331CFFF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9C432-8D69-437B-93FA-9966779D79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922E4-15C5-462A-9C7A-9CCDA7EBD7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9605A-D6E7-4CB9-BB48-F4168D4BDE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7121B-2A09-4A2B-B85A-0CE64AC907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F85B0-436F-4524-8F4A-9284AD456D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A787E-D823-49AE-8256-A32EBF74F9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56A7-28F2-4EE3-ABAF-7C153EF78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2AA26-8CA5-4350-93B6-6271D52BF3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E29EC-73C2-4D0C-9B62-D6C6F31A4B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3EDF0-277C-4677-BC6A-8A383ACD51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ED33E-80D5-4D27-A164-9A3D686D65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BD957-A10D-4B3C-AFDF-6EAD8875D3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E3D2-7902-4442-9C39-56776C642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51AF-7261-460D-BB28-53827A555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38B8-22CF-4B2B-9569-123F8D738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8855-7919-44F8-B4C1-069F74E52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2F1A-B3E4-4E00-BB9C-2077AD633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811F-E267-4862-9052-408382B9B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2A62-94C6-4BBD-9D38-C867D60E6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8E9F-607B-40C2-A2AE-0E95E5DDC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1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0F94-D957-4FBB-8D4B-8C3EF825C3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rot="5400000">
            <a:off x="6781320" y="7596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 rot="16200000">
            <a:off x="6781680" y="45684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kcij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uzeci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243080"/>
            <a:ext cx="7696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eg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Motiv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Mehanizam obrade izuze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efinicija hendl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Izazivanje izuze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ihvatanje izuze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Specifikacija izuzetaka funk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Neprihvaćeni izuz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Neočekivani izuz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Standardni izuz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A6813-A577-48BC-BEC4-D739185B86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Mehanizam obrad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(int n) : n(n) {a = new int[n];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&amp; operator[](int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 i &lt; 0 || i &gt;= 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8320-53FA-44E6-9CC4-53B34C44DB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Mehanizam obrad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0]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a[0]=" &lt;&lt; a[0]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a[1]=" &lt;&lt; a[1]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a[2]=" &lt;&lt; a[2]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tch(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Izuzetak "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27640" y="4884840"/>
            <a:ext cx="2916360" cy="197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D37CD-5C41-4DB7-A6A9-FA9E74E65D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Definicija hendler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cija hendlera li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a definiciju funkcije sa t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jednim argumen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e da je hendler tip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ko je njego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p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dler tip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je izuzetke tipa 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ti tipov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osnovna klasa kla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 pokazivači koji se mogu konvertovat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 liste hendlera bira se onaj koji odgovara tipu izuzet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odgovara više bira se onaj po redosljedu pojavljivan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E6D1-FF10-4267-8BA9-EE5C511310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ši se naredbom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throw izra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raz svojim tipom određuje koji hendler će biti pozv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ijednosti izraza se prenosi handleru kao argu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ok programa se nastavlja na mjestu koje taj izuzetak može obradi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pitanju j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zkaz sa odgovarajućim tipom formalnog argumenta koji pripada najbližem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blok koji je započet, a nije završ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3938-B978-4F87-A15A-6A163BC786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272360" cy="53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397C-C98B-4739-B02F-6FE1BBBDCA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(int n) : n(n) {a = new int[n];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&amp; operator[](in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if ( i &lt; 0 || i &gt;= n) throw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a[i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in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Izuzetak Array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a[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05B0-48E8-4AD8-91C7-EE6A4FE294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0]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a[0]=" &lt;&lt; a[0]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a[1]=" &lt;&lt; a[1]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a[2]=" &lt;&lt; a[2]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tch(int 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Izuzetak main "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16720" y="4491000"/>
            <a:ext cx="2627280" cy="236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FF7A-2EE4-4036-BA43-07FD460958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(int n) : n(n) {a = new int[n];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&amp; operator[](int 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if ( i &lt; 0 || i &gt;= n ) throw 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[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7F7E-AF72-4373-9A7A-4A4AFE91E3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0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0]=" &lt;&lt; a[0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1]=" &lt;&lt; a[1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2]=" &lt;&lt; a[2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ch(in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Izuzetak main " &lt;&lt; i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04000" y="4815000"/>
            <a:ext cx="2340000" cy="20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0360-9244-4BA6-B12A-5AA4B9FAAC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Underflow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public: 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derflowIndex(int i) : i(i){}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Overflow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public: 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flowIndex(int i) : i(i){}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(int n) : n(n) {a = new int[n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&amp; operator[](in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i &lt; 0 ) throw UnderflowIndex(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i &gt;= n ) throw OverflowIndex(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[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A42BA-1982-4ECB-9AEE-166DAC423D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iljevi le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voj lekci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mehanizmom obrade izuze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azivanje i prihvatanje izuze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nos informacije o izuzet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rihvaćen i neočekivani izuz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ni izuz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B3A8-30E7-4CEB-B901-F85CDA8525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0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0]=" &lt;&lt; a[0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1]=" &lt;&lt; a[1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2]=" &lt;&lt; a[2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ch(UnderflowIndex u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Ispod donje granice " &lt;&lt; uie.i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ch(OverflowIndex u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Iznad gornje granice " &lt;&lt; uie.i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515280" y="1484280"/>
            <a:ext cx="2628720" cy="21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D523-7510-4DBA-B67A-21D0F04BBA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0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0]=" &lt;&lt; a[0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1]=" &lt;&lt; a[1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-1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-1]=" &lt;&lt; a[-1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ch(UnderflowIndex u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Ispod donje granice " &lt;&lt; uie.i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ch(OverflowIndex u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Iznad gornje granice " &lt;&lt; uie.i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3348000" cy="15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7EC6B-0D29-4C31-A69B-D6D41FA4DE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 izazivanja izuzetk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mira se privremeni objekat sa vr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noš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izr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aja kontrole hendleru podrazu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vno napuštanje bloka u kojem se dogodio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uzet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uštanje bloka podrazumijeva uništavanje svih lokalnih objekata u tom bloku i ugnj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žd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im blokov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jekat koji se pojavi kao operand naredb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štav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 se zato prethodno kopira u privreme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remeni objekat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e uništiti tek po napuštanju 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 hendl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navo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a hendlera treba se dr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i s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 pravi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lere tipa izvedenog iz neke osnovne kla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ba stavljati ispred hendlera tipa te osnov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rzalni hendler treba stavljati na posl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nje m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5EEA-F85A-4ADC-B2D2-7123910697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lass IndexEx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UnderflowIndex : public Index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public: int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derflowIndex(int i) : i(i){};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OverflowIndex : public Index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public: int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verflowIndex(int i) : i(i){};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(int n) : n(n) {a = new int[n];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&amp; operator[](in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i &lt; 0 ) throw UnderflowIndex(i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i &gt;= n ) throw OverflowIndex(i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a[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8A59-CA82-48C1-8D9A-CDCF8A8E68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[0] = 1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a[0]=" &lt;&lt; a[0]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a[1]=" &lt;&lt; a[1]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[-1] = 2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a[-1]=" &lt;&lt; a[-1]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catch(IndexEx ix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cout &lt;&lt; "Van granica "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atch(UnderflowIndex ui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Ispod donje granice " &lt;&lt; uie.i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atch(OverflowIndex ui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Iznad gornje granice " &lt;&lt; uie.i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551640" y="1700280"/>
            <a:ext cx="259236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F964-320A-4DDB-A89B-5C538673D4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Index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int cou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Ex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= count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Konstr. " &lt;&lt; id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Ex(IndexEx&amp; in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= ind.id * ind.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Konstr. kopije " &lt;&lt; id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~IndexEx(){cout &lt;&lt; "Destr. " &lt;&lt; id &lt;&lt; endl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getId(){return id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55C2-E4BA-4672-B4A7-2A0B990732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90756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Ex::count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&amp; Array::operator[](in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dexEx i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i &lt; 0 || i &gt;= n )  throw i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ch(IndexEx 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Van granica " &lt;&lt; ix.getId()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975280" y="1989000"/>
            <a:ext cx="3168720" cy="312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5AF5-47C0-4890-94C1-93884E4F03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964720" cy="465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2D40-1472-42D5-A695-CA2B115A68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&amp; Array::operator[](in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dexEx i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i &lt; 0 || i &gt;= 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throw i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catch(IndexEx&amp; 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Van granica " &lt;&lt; ix.getId()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470560" y="1341360"/>
            <a:ext cx="3673440" cy="359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5C71F-272E-42AA-AFE8-729DD3B49B7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72400" cy="541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A5E4-409C-40A9-8312-5D12D0E469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Motivacija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da gr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aka, tj. izuzetnih situacija u programiranju ima veliki znača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grami obično sadrže značajnu količinu koda koja obrađuje situacije koje nijesu dio osnovnog zadatka 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mogućnost otvaranja datotek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uspješna alokacija memor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unkcije mogu završiti rad neupješno iz razloga koji nijesu pod direktnim uticajem programe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postojanje datotok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dovoljno slobodne memorije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B5BB-A485-463C-B492-F559BC4A4E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&amp; Array::operator[](in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dexEx i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i &lt; 0 || i &gt;= 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throw &amp;i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catch(IndexEx* 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cout &lt;&lt; "Van granica " &lt;&lt; ix-&gt;getId()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i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688000" y="1628640"/>
            <a:ext cx="3456000" cy="247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A9C07-4A8C-43A4-86FF-E8FF72CF3AD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848720" cy="478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150C-6296-4F32-A907-31A6CD32E9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&amp; Array::operator[](in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i &lt; 0 || i &gt;= 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throw new IndexE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catch(IndexEx* 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Van granica " &lt;&lt; ix-&gt;getId()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delete i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694560" y="2133720"/>
            <a:ext cx="2449440" cy="189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63DB-B222-4B24-9503-93F1B5E5CB9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424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1B23-63D6-4EF8-850E-B3B09FAEC8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Specifikacija izuzetaka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deklaraciji ili definiciji funkcija mo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da se navede spisak tipova izuzetaka koje funkcija izaz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o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 spiska tipova izuzetaka se post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pomo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(niz_identifikatora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_tipov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a liste argumen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a koja nem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kaciju može izazvati bilo koji izuzet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suprotnom može izazvati samo one izuzetke koji su navedeni u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st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Virtuelna metoda u izvedenoj kla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ne sme da proširi listu izuzetaka iz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klauz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me da suzi listu izuzetak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klauz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DCD4-D184-43BC-8A21-3852C82E4A9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Specifikacija izuzetaka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func1(int k) throw(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k &gt; 1)  throw 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k == 0) throw Complex(1.0, 1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k -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func1(2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in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int " &lt;&lt;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func1(0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Complex 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Complex " &lt;&lt; 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859280" y="5942160"/>
            <a:ext cx="4284720" cy="91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86C3-9D85-441D-B673-EF5F8D82936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Neprihvaće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slučaju kada dođe do izuzetka za koji ne postoji odgovarajući hendler poziva se sistemska funkcij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terminat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odrazumijevano ova funkcije poziva funkciju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bor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Kontrola biva vraćena operativnom sistem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vo je moguće promijeniti pozivom funkcij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et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inate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oj funkciji se predaje pokazivač na funkciju koja treba da bude pozvana umjesto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guće je predati samo pokazivač na funkciju koja nema argumenata i povratni rezultat (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Za povratak kontrole OS-u pozvat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ema smisla izvršit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naredb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A940-E473-43D3-88AC-2741EC83D4E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Neprihvaće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&amp; Array::operator[](in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i &lt; 0 || i &gt;= n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throw new IndexEx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a[i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user_def_abort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Postoji neprihvaceni izuzetak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_terminate(&amp;user_def_abor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atch(in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Van granica 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4211640" cy="14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E225-1B56-4459-A9AD-23FEC435F89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Neočekiva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slučaju u toku izvršavanja funkcije dođe do izuzetka koji nije naznačen u spisku dozvoljenih izuzetaka funkcije poziva se funkcij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expecte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odrazumijevano ova funkcije poziva funkciju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inat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Kontrola biva vraćena operativnom siste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vo je moguće promijeniti pozivom funkcij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</a:t>
            </a:r>
            <a:r>
              <a:rPr b="0" lang="sl-SI" sz="24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expected</a:t>
            </a:r>
            <a:r>
              <a:rPr b="0" lang="sl-SI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voj funkciji se predaje pokazivač na funkciju koja treba da bude pozvana umjesto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erm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Moguće je predati samo pokazivač na funkciju koja nema argumenata i povratni rezultat (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Za povratak kontrole OS-u pozvati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ema smisla izvršiti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naredb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0CA6-1872-4593-9B23-BDBCBBE8B0B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Neočekiva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func1(int k) throw(in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k &gt; 1)  throw 5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k == 0) throw Complex(1.0, 1.0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k -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user_def_terminate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"Postoji neocekivani izuzetak" &lt;&lt;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t_unexpected(&amp;user_def_terminate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func1(0) &lt;&lt;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ch(...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759280" y="5875200"/>
            <a:ext cx="3384720" cy="98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A5F7-BAC9-4B48-AE41-AA35ADFD65B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unkcija koje je okončala rad neuspješno mora informaciju o tome proslijediti funkciju koja ju je pozva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zivajuća funkcija razrešava nepredviđenu situaciju ili informaciju dalje prosljeđuje nadređenoj funkcij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zik nema odgorajuću podršku za obradu izuzetaka informacije se moraju prenositi kao parametri funkcija, ili kao povratne vrijednos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akav pristup ima brojne mane koje utiču na razumljivost progra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e su opterećene dodatnim argumentima čime se smanjuje čitljivost progra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68B97-C7E9-4B56-B847-9A59611D20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Standard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predak (korjena klasa) svih standardnih izuze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zaglavlju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exception.h&gt;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Metode standardnih klasa i neki operatori prijavljuju izuzetke klasa izvedenih iz klase 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To znači da se bilo koji od ovih izuzetaka može prihvatiti sa 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catch(exception&amp;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Još jedna od prednosti polimorfiz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Preporučlivo je da se i svi korisnički izuzeci budu izvedeni iz ov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mogućeno je projetkovanje hijerarhije izuzetaka gdje se oni mogu obrađivati pojedinačno i u grup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4ED8-95B4-4CAC-B36A-3BEC01E4432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Standard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nterfejs kl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class excepti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ception() throw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ception(const exception &amp;)throw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ception&amp; operator=(const exception &amp;)throw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rtual ~exception()throw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rtual const char* what() const throw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 jedna metoda ne smije da prijavi izuzeta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bezbijeđno putem deklaracij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hrow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etoda what vraća opis na tesktualni opis izuzet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1F47-5307-4076-9CC9-60A6C0807B4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Standard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* niz = new int[10000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tch(exception&amp;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"izuzetak "&lt;&lt; e.wha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68720" y="5672160"/>
            <a:ext cx="4175280" cy="11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3B7B-C0FF-4523-B6BD-6F60EDCBC5D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Standard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class IndexEx : public 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class UnderflowIndexEx : public Index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derflowIndexEx()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~UnderflowIndexEx()throw()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st char* what() const throw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return "UnderflowIndexEx"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class OverflowIndexEx : public Index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verflowIndexEx()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~OverflowIndexEx() throw() 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st char* what() const throw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return "OverflowIndexEx"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E79D-8205-49E1-8D67-8E1DA3B5841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Standard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0]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1]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2]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catch(exception&amp;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"izuzetak "&lt;&lt; e.wha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076720" y="2781360"/>
            <a:ext cx="4067280" cy="135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4728-AC30-4A78-81E9-4F93C617681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Standard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0]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1]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-1]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tch(IndexEx&amp; 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izuzetak "&lt;&lt; e.wha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tch(exception&amp; 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ostali "&lt;&lt; e.wha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003640" y="2133720"/>
            <a:ext cx="4140360" cy="13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3FD0-7684-4186-BDDD-20CE5C05FD5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Standard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[0]=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[1]=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=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UnderflowIndexEx&amp; 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izuzetak under "&lt;&lt; e.wha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OverflowIndexEx&amp; 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izuzetak over "&lt;&lt; e.wha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IndexEx&amp; 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izuzetak "&lt;&lt; e.wha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exception&amp; 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ostali "&lt;&lt; e.wha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140360" y="1844640"/>
            <a:ext cx="5003640" cy="11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E5F3-4DD3-49A6-A329-0A5EBC15E4E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grami sadrže veliki broj if naredbi za provjeru status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igracija u des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f1())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us==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(f2())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us==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(f3())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us==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lancu poziva funkcija kada grešku treba propagirati prema višem nivou svaka funkcija iz lanca mora da sadrži  odgovarajući ko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E782A-9730-48FD-B67C-8284F4A54A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reba uvesti mehanizam koji omoguć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enos informacije o nepredviđenim situacijama nezavisno od argumenata ili povratne vrijenosti 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pisivanje izuzetata korisničkim tipov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Jasno razdvajanje programskog koda koji se odnosi na glavni zadatak programa i programskog koda za obradu izuzetak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snovni tok programa rasterećuje se provjera statu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brada nekog izuzetka se vrši na jednom mjest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a pojavu izuzetke automatski se prelazi na dio koda za obra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ehanizam obrade izuzetaka u jeziku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 C+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podržava ove zahtj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B25F-ABAD-4D27-9535-AAB518B11A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Mehanizam obrad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mogućava prenos kontrole toka programa sa mjesta na kojem dolazi do izuzetka do mjesta gdje se taj izuzetak može obradi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jesto obrade nije poznato u trenutku pojave izuzet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avljanje i obrada izuze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a mjestu gdje je izuzetak nastao treba postaviti izuzeta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zuzetak se postavlja narednom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h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a tom mjestu se prekida tok izvršavanja progra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brada se nastavlja u posebnoj rutini (hendleru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jesto obrade nije poznato u trenutku postavljanja izuze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uzetak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može biti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klase (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ili nekog drugog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a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i se dostavlja hendleru kao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vaki tip izuzetka se definiše zaseban hend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0275-D344-4ADB-9801-547F4D2637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Mehanizam obrad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rada izuzetaka je vezana za blok u kojem se predvi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 se mogu pojaviti izuzetne situ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j blok se navodi iza ključne riječ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y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a ovog bloka slijedi proizvoljan broj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tc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kaz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k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tc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raz predstavlja jedan hendl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a riječ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tc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zagradama se navodi deklaracija formalnog argumenta bloka za obradu izuzet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 predstavlja objekat koji se prihvata kada se generiše izuzeta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je navedeno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...)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da je to univerzalni hend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a zagrada slijed blok koji predstavlja programski kod za obradu izuzet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7B45-AC3B-4BBC-9B51-9404195E53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Mehanizam obrad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201080" cy="532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F54B-1367-4B8D-B37B-EBDA00DF23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leksandar</cp:lastModifiedBy>
  <dcterms:modified xsi:type="dcterms:W3CDTF">2013-08-19T12:28:36Z</dcterms:modified>
  <cp:revision>931</cp:revision>
  <dc:subject/>
  <dc:title>Chapter 1 – Introduction to Computers and C++ Programming</dc:title>
</cp:coreProperties>
</file>